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DC4-257C-4928-A86A-089935CE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C1A-58D9-47EC-8281-EA5C75DA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A74-E563-42FE-B0C0-ED3B3311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9FD-FC7F-4327-BF07-EA0D460D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6FF09-B699-4747-B4FB-C2AC7A22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2959A-5B53-4F85-8AE6-5CB9D1EA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9A709-CDAD-4885-8609-EDFACC86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21D97-18F5-491C-B731-5DB7427E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E01AA-1EA1-4DAB-9C43-91832D50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2079D-CD17-4843-9DC5-C6D98A7B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C9AFC-A93A-4F40-B753-6C401766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830-107E-424A-A532-ADA4430E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6EC20-8FD7-4B23-B327-ECDE3E9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448C4-AB3E-409B-A708-A323141D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69419-2D42-4A17-B0A4-7EEA6833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6F790-DD7B-41A4-BCD5-0A83CEB2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EE36E-7B98-4855-A63C-1C2C2D7A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DD3AA-FB94-4C24-B590-12C08ED8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2F5D-E068-4C36-BAB4-6482FA71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35CB6-160B-45C8-8568-08B08B10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5B2E6-E96E-4367-9BC4-342BBFD9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4AD8B-676D-465A-8C43-A7085BAE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58D-8CB5-49A3-9C66-D287FD8D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3B205-938A-4A00-A519-8B0FC69A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508EF-F54C-4E2E-AC47-4EDE10D0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5DDE0-037F-459F-9194-C6A89A68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10C30-8785-4A3F-9769-E997EB3D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C738D-A187-44A5-8D15-C53C528E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8E39-AD20-468D-830B-E5125A0D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38676-A1E0-4BE2-B722-D17A62D7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51BA73-D6D5-416C-9212-7144C30F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78BD83-B8DD-4D62-9FA3-CC16F9A2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6D8C91-0034-4D2C-98FE-7800CC60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038-A973-47B4-8189-631AE815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EF8516-3F22-46AC-A01A-4E361575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539FA-9E83-41E4-B6D9-0ABEE568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7EDE54-EF40-4663-93F9-716FA3E2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1F5123-E896-42B9-8A60-533A595C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955E22-680E-45FF-95E0-BBCF8BF9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259855-4E80-472F-B007-873D0DE3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7E9221-6221-4734-90F3-E929FCFC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78C00-564A-4D2F-BD0F-B4CB2CD6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73A95-B7E8-4A7B-B98C-6BE066CF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1F086-3943-4391-A1A8-B1FD1625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5BE-7812-4EAE-A05F-BE263782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98612-EA92-46EB-919D-B44C9399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046D3-8E4A-4375-9BA3-8B8B47FD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819F3-C8E1-4254-9C5E-03AC4675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13908-72E4-4E4A-8F9A-72CCAB15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CC5D4-3633-4A25-B877-42A397C9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BC786-5265-4123-93C9-3396176D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5D6EA-2772-47EF-82B3-4561D5F5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B1A87-0826-4A0A-AD84-0D902CC2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6D9BD-9A72-4416-B5BC-10DB8CA8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057BF-69D8-43E3-8222-0BDDD10B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10A-6E10-4A13-B0B8-4874366F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88E2A-688C-4F22-ABA7-4ADE795B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2C439-F321-4C19-90FD-E15951B9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6675D0-A7E9-49F0-8F94-692DCD68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CDCD6F-ED6C-4FCC-9908-EBD33CE8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F86245-1A82-49A3-AB8B-78D7273A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F51BA6-BBD3-47B2-AB64-DF154C47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7CEB2-1446-40B7-9571-C540EA11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47DA9-23C8-4C8C-A468-287FA6E9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8AF3AF-9170-479B-8AC5-7F890972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A7F2D9-EE60-4701-B576-528CF991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9E9-75FF-43E0-A4FB-64C9C869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FD204-0174-42E0-B555-D28EC796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E78E6E-284B-4401-9061-4F61D5B1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8272C-AF73-4193-A622-E2E374A1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A54-9F6B-4635-B1FC-517F6281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BA4-0E4E-468B-8CBC-A67D4BBA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33AC-C10B-49C1-9C08-FB76F67A8A84}" type="slidenum">
              <a:rPr b="0" lang="en-US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9f2936"/>
          </a:solidFill>
          <a:ln w="38160">
            <a:solidFill>
              <a:srgbClr val="9f2936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9D13-30DE-4248-BA9F-7C9EAA26CF3A}" type="slidenum">
              <a:rPr b="0" lang="en-US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869E-4DC9-49CE-A163-BA896AD1C25B}" type="slidenum">
              <a:rPr b="0" lang="en-US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5EF5-B73E-4396-BD6A-8726483F8BF4}" type="slidenum">
              <a:rPr b="0" lang="en-US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2C08-8D96-4D86-BD90-A4EB2C5CB339}" type="slidenum">
              <a:rPr b="0" lang="en-US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D8D5-B7FB-4AE1-B92D-1A752E34B7E1}" type="slidenum">
              <a:rPr b="0" lang="en-US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433440" y="208080"/>
            <a:ext cx="8350200" cy="24429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3"/>
          <p:cNvSpPr/>
          <p:nvPr/>
        </p:nvSpPr>
        <p:spPr>
          <a:xfrm>
            <a:off x="5929200" y="3357720"/>
            <a:ext cx="321480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nstantia"/>
              </a:rPr>
              <a:t>Выполнила Вежова А.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nstantia"/>
              </a:rPr>
              <a:t>Студентка 4 курса КГП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nstantia"/>
              </a:rPr>
              <a:t>Филологического фак-та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54" name="Горизонтальный свиток 5"/>
          <p:cNvGrpSpPr/>
          <p:nvPr/>
        </p:nvGrpSpPr>
        <p:grpSpPr>
          <a:xfrm>
            <a:off x="542880" y="1255680"/>
            <a:ext cx="8345520" cy="1951200"/>
            <a:chOff x="542880" y="1255680"/>
            <a:chExt cx="8345520" cy="1951200"/>
          </a:xfrm>
        </p:grpSpPr>
        <p:pic>
          <p:nvPicPr>
            <p:cNvPr id="255" name="Горизонтальный свиток 5" descr=""/>
            <p:cNvPicPr/>
            <p:nvPr/>
          </p:nvPicPr>
          <p:blipFill>
            <a:blip r:embed="rId3"/>
            <a:stretch/>
          </p:blipFill>
          <p:spPr>
            <a:xfrm>
              <a:off x="542880" y="1255680"/>
              <a:ext cx="834552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814320" y="1628640"/>
              <a:ext cx="770112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262626"/>
                  </a:solidFill>
                  <a:latin typeface="Arial"/>
                </a:rPr>
                <a:t>Экспрессионизм в живописи.</a:t>
              </a:r>
              <a:endParaRPr b="0" lang="en-US" sz="32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971640" y="2997360"/>
            <a:ext cx="3024000" cy="3468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267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50141b"/>
                </a:solidFill>
                <a:latin typeface="Arial"/>
              </a:rPr>
              <a:t>Что такое искусство?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1116000" y="3284640"/>
            <a:ext cx="633564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Проблемные вопросы: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3151c"/>
                </a:solidFill>
                <a:latin typeface="Arial"/>
              </a:rPr>
              <a:t>Почему возникло течение экспрессионизм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3151c"/>
                </a:solidFill>
                <a:latin typeface="Arial"/>
              </a:rPr>
              <a:t>Что характерно для экспрессионизм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3151c"/>
                </a:solidFill>
                <a:latin typeface="Arial"/>
              </a:rPr>
              <a:t>Какие существовали экспрессионистские объединения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50141b"/>
                </a:solidFill>
                <a:latin typeface="Bookman Old Style"/>
              </a:rPr>
              <a:t>Приобщение учеников к искусству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141b"/>
                </a:solidFill>
                <a:latin typeface="Constantia"/>
              </a:rPr>
              <a:t>Познакомить с таким течением в искусстве как экспрессиониз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141b"/>
                </a:solidFill>
                <a:latin typeface="Constantia"/>
              </a:rPr>
              <a:t>Научить анализировать картины художников-экспрессионис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nstantia"/>
              </a:rPr>
              <a:t>Проект рассчитан на 2 ча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0141b"/>
                </a:solidFill>
                <a:latin typeface="Constantia"/>
              </a:rPr>
              <a:t>1 час- знакомство с течением экспрессионизм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0141b"/>
                </a:solidFill>
                <a:latin typeface="Constantia"/>
              </a:rPr>
              <a:t>2 час- работа с картинами художников- экспрессионистов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0141b"/>
                </a:solidFill>
                <a:latin typeface="Arial"/>
              </a:rPr>
              <a:t>Толкование течения « экспрессионизм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0141b"/>
                </a:solidFill>
                <a:latin typeface="Arial"/>
              </a:rPr>
              <a:t>Художественные приемы экспрессионизм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0141b"/>
                </a:solidFill>
                <a:latin typeface="Arial"/>
              </a:rPr>
              <a:t>Экспрессионистские объедин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0141b"/>
                </a:solidFill>
                <a:latin typeface="Arial"/>
              </a:rPr>
              <a:t>Анализ картин художников-экспрессионист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Заголовок 2" descr=""/>
          <p:cNvPicPr/>
          <p:nvPr/>
        </p:nvPicPr>
        <p:blipFill>
          <a:blip r:embed="rId2"/>
          <a:stretch/>
        </p:blipFill>
        <p:spPr>
          <a:xfrm>
            <a:off x="450720" y="371520"/>
            <a:ext cx="8242560" cy="77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0141b"/>
                </a:solidFill>
                <a:latin typeface="Constantia"/>
              </a:rPr>
              <a:t>Доклад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0141b"/>
                </a:solidFill>
                <a:latin typeface="Constantia"/>
              </a:rPr>
              <a:t>Сообщение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0141b"/>
                </a:solidFill>
                <a:latin typeface="Constantia"/>
              </a:rPr>
              <a:t>Работа с картиной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Заголовок 2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242560" cy="128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141b"/>
                </a:solidFill>
                <a:latin typeface="Arial"/>
              </a:rPr>
              <a:t>http://www.directorinfo.ru/Article.aspx?id=13925&amp;iid=62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141b"/>
                </a:solidFill>
                <a:latin typeface="Arial"/>
              </a:rPr>
              <a:t>http://ec-dejavu.ru/e/Expressionism.htm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151c"/>
                </a:solidFill>
                <a:latin typeface="Arial"/>
              </a:rPr>
              <a:t>http://bse.sci-lib.com/article125772.htm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4-07T09:05:01Z</dcterms:modified>
  <cp:revision>19</cp:revision>
  <dc:subject/>
  <dc:title>Экспрессионизм</dc:title>
</cp:coreProperties>
</file>